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110A-399F-47DE-A445-474E663CB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cellent domain for an interoperable system of system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Architecture Pilot development consists of multiple steps. The first step is the conceptual development. The air quality scenario for the Pilot is a key part of the conceptual develop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Quality Scenario was developed iteratively by a collaborating multi-organizat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used the ESIP wiki and telecons to discuss and develop the submitted scenar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ty of Practice is to co-evolve with the AIP Pilot and other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word: the idea behind the last slide, if it isn't clear, is simply a plea that we not have to build a new pipe (ie months of code) everytime somebody has a new scientific or policy idea.  Or the same idea from a different location (mesoamerica vs. california).  The air quality community has built a lot of interconnected datasets and systems over the years, and we can impress these folks with that and say, 'moving forward, let's do it in a better way.'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ea to keep as much of the scenario goals in mind as we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ink of those on the far right as ‘decision makers’/ end users / customers for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instead focus on many uses of the data – many branches – so decisions are being made throughout the valu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go, we (UIC) need input from a wide variety of users / decision m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357-7A29-4F3A-8768-DA362975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949-0B1A-4A60-A53D-BD7A8CB6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FC9-9CE5-4089-96D5-52F75C5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9B4-2B93-4D29-B831-D3B6A6D1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21C-59E4-40A3-B522-9127E8CD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D88-B0C2-4835-B7F9-AABE42E8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97E-6ECC-4B2F-919E-5605A23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76B-6E21-4397-9110-070754D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830-F11C-4CD0-9955-FB558B4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BED-BE5F-4616-BDE4-AFE75E5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AE9-D021-4637-B14D-9D2111DC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F1D-41D1-43E8-ACB0-BF2E62CA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0FE7-60EF-4C5E-9004-0C0E28F51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GEOSS_AIP_AQ_Scenario" TargetMode="External"/><Relationship Id="rId2" Type="http://schemas.openxmlformats.org/officeDocument/2006/relationships/hyperlink" Target="http://wiki.esipfed.org/index.php/Talk:GEOSS_AIP_AQ_Scenario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7320" y="19681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rchitecture Implementation Pilot</a:t>
            </a:r>
            <a:br>
              <a:rPr sz="3600"/>
            </a:br>
            <a:br>
              <a:rPr sz="18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and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fan Falke, Rudy Hus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is Lindsay, David McC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der Kickof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tra slid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9400" y="1752480"/>
            <a:ext cx="84963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pollution remains a ser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ublic heal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: hundreds of thous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eaths from outdoor air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, forecast, and manage air pollution, diverse information needs to be brought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nitors, satellites, airborn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&amp;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&amp;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, exposure-related behavior, health imp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crosses political boundaries so information must too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1351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98880" y="979560"/>
            <a:ext cx="38926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evelopment of the AIP Air Quality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7920" y="1625400"/>
            <a:ext cx="8433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iteratively by a collaborating multi-organization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IP w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online forum and telecons to pla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develop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d develop the ESIP air qualit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Community of Prac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ving with the AIP Pilot and oth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with AIP Phase Two CFP, 27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524480" y="3733920"/>
            <a:ext cx="3352680" cy="226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39960" y="3733920"/>
            <a:ext cx="2828880" cy="226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022400" y="4154400"/>
            <a:ext cx="776160" cy="514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5960" y="4859280"/>
            <a:ext cx="3510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unity of Practice Wik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 AQ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05040" y="4441680"/>
            <a:ext cx="3435120" cy="671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17760" y="4421160"/>
            <a:ext cx="776160" cy="514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524480" y="3733920"/>
            <a:ext cx="3603600" cy="22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 flipV="1">
            <a:off x="2286000" y="4611600"/>
            <a:ext cx="3276720" cy="68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needed!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4520" y="3371400"/>
            <a:ext cx="260028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inv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965160" y="3933720"/>
            <a:ext cx="2332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6800" y="79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ocietal needs and the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85680" y="1673280"/>
          <a:ext cx="7270920" cy="4806720"/>
        </p:xfrm>
        <a:graphic>
          <a:graphicData uri="http://schemas.openxmlformats.org/drawingml/2006/table">
            <a:tbl>
              <a:tblPr/>
              <a:tblGrid>
                <a:gridCol w="2613240"/>
                <a:gridCol w="776160"/>
                <a:gridCol w="776160"/>
                <a:gridCol w="776520"/>
                <a:gridCol w="776160"/>
                <a:gridCol w="776160"/>
                <a:gridCol w="776520"/>
              </a:tblGrid>
              <a:tr h="23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wo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 analy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policy m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t policy m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e indivi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inter-continental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ing satellite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it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odel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 nowcasts, forecasts to 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100080" y="3557160"/>
            <a:ext cx="1001520" cy="2815200"/>
            <a:chOff x="100080" y="3557160"/>
            <a:chExt cx="1001520" cy="2815200"/>
          </a:xfrm>
        </p:grpSpPr>
        <p:sp>
          <p:nvSpPr>
            <p:cNvPr id="180" name=""/>
            <p:cNvSpPr/>
            <p:nvPr/>
          </p:nvSpPr>
          <p:spPr>
            <a:xfrm>
              <a:off x="100080" y="3686040"/>
              <a:ext cx="1001520" cy="2686320"/>
            </a:xfrm>
            <a:custGeom>
              <a:avLst/>
              <a:gdLst>
                <a:gd name="textAreaLeft" fmla="*/ 133920 w 1001520"/>
                <a:gd name="textAreaRight" fmla="*/ 867600 w 1001520"/>
                <a:gd name="textAreaTop" fmla="*/ 559080 h 2686320"/>
                <a:gd name="textAreaBottom" fmla="*/ 1847520 h 268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995" stAng="-5400000" swAng="-5400000"/>
                  <a:lnTo>
                    <a:pt x="0" y="10356"/>
                  </a:lnTo>
                  <a:arcTo wR="21600" hR="8995" stAng="10800000" swAng="-3106736"/>
                  <a:lnTo>
                    <a:pt x="14869" y="21152"/>
                  </a:lnTo>
                  <a:lnTo>
                    <a:pt x="21600" y="18671"/>
                  </a:lnTo>
                  <a:lnTo>
                    <a:pt x="14869" y="15293"/>
                  </a:lnTo>
                  <a:lnTo>
                    <a:pt x="14869" y="17542"/>
                  </a:lnTo>
                  <a:arcTo wR="21600" hR="8995" stAng="7693264" swAng="2998156"/>
                  <a:lnTo>
                    <a:pt x="62" y="9676"/>
                  </a:lnTo>
                  <a:arcTo wR="21600" hR="8995" stAng="-10691420" swAng="5291420"/>
                  <a:close/>
                </a:path>
                <a:path fill="darkenLess" w="21600" h="21600">
                  <a:moveTo>
                    <a:pt x="21600" y="0"/>
                  </a:moveTo>
                  <a:arcTo wR="21600" hR="8995" stAng="-5400000" swAng="-5400000"/>
                  <a:lnTo>
                    <a:pt x="0" y="8995"/>
                  </a:lnTo>
                  <a:arcTo wR="21600" hR="8995" stAng="10800000" swAng="-108580"/>
                  <a:lnTo>
                    <a:pt x="62" y="9676"/>
                  </a:lnTo>
                  <a:arcTo wR="21600" hR="8995" stAng="-10691420" swAng="529142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3680" y="3657600"/>
              <a:ext cx="579240" cy="973080"/>
            </a:xfrm>
            <a:custGeom>
              <a:avLst/>
              <a:gdLst>
                <a:gd name="textAreaLeft" fmla="*/ 77400 w 579240"/>
                <a:gd name="textAreaRight" fmla="*/ 501840 w 579240"/>
                <a:gd name="textAreaTop" fmla="*/ 170280 h 973080"/>
                <a:gd name="textAreaBottom" fmla="*/ 70560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040" y="5224320"/>
              <a:ext cx="579600" cy="973440"/>
            </a:xfrm>
            <a:custGeom>
              <a:avLst/>
              <a:gdLst>
                <a:gd name="textAreaLeft" fmla="*/ 77400 w 579600"/>
                <a:gd name="textAreaRight" fmla="*/ 502200 w 579600"/>
                <a:gd name="textAreaTop" fmla="*/ 170280 h 973440"/>
                <a:gd name="textAreaBottom" fmla="*/ 705960 h 9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53960" y="4447440"/>
              <a:ext cx="579600" cy="973080"/>
            </a:xfrm>
            <a:custGeom>
              <a:avLst/>
              <a:gdLst>
                <a:gd name="textAreaLeft" fmla="*/ 77400 w 579600"/>
                <a:gd name="textAreaRight" fmla="*/ 502200 w 579600"/>
                <a:gd name="textAreaTop" fmla="*/ 170280 h 973080"/>
                <a:gd name="textAreaBottom" fmla="*/ 70560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0200" y="3556800"/>
              <a:ext cx="579600" cy="1871640"/>
            </a:xfrm>
            <a:custGeom>
              <a:avLst/>
              <a:gdLst>
                <a:gd name="textAreaLeft" fmla="*/ 77400 w 579600"/>
                <a:gd name="textAreaRight" fmla="*/ 502200 w 579600"/>
                <a:gd name="textAreaTop" fmla="*/ 386640 h 1871640"/>
                <a:gd name="textAreaBottom" fmla="*/ 12978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931" stAng="-5400000" swAng="-5400000"/>
                  <a:lnTo>
                    <a:pt x="0" y="10510"/>
                  </a:lnTo>
                  <a:arcTo wR="21600" hR="8931" stAng="10800000" swAng="-2967912"/>
                  <a:lnTo>
                    <a:pt x="14400" y="21089"/>
                  </a:lnTo>
                  <a:lnTo>
                    <a:pt x="21600" y="18651"/>
                  </a:lnTo>
                  <a:lnTo>
                    <a:pt x="14400" y="15190"/>
                  </a:lnTo>
                  <a:lnTo>
                    <a:pt x="14400" y="17350"/>
                  </a:lnTo>
                  <a:arcTo wR="21600" hR="8931" stAng="7832088" swAng="2841822"/>
                  <a:lnTo>
                    <a:pt x="85" y="9720"/>
                  </a:lnTo>
                  <a:arcTo wR="21600" hR="8931" stAng="-10673910" swAng="5273910"/>
                  <a:close/>
                </a:path>
                <a:path fill="darkenLess" w="21600" h="21600">
                  <a:moveTo>
                    <a:pt x="21600" y="0"/>
                  </a:moveTo>
                  <a:arcTo wR="21600" hR="8931" stAng="-5400000" swAng="-5400000"/>
                  <a:lnTo>
                    <a:pt x="0" y="8931"/>
                  </a:lnTo>
                  <a:arcTo wR="21600" hR="8931" stAng="10800000" swAng="-126090"/>
                  <a:lnTo>
                    <a:pt x="85" y="9720"/>
                  </a:lnTo>
                  <a:arcTo wR="21600" hR="8931" stAng="-10673910" swAng="5273910"/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66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o does the air quality scenario benefit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8840" y="1663200"/>
            <a:ext cx="806436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enario is quite broad and ambitious,                   structured around the needs of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ree end-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 policy-make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ing synthetic assessmen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ong-range transport of air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 air quality manage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ing whether an epis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s as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’exceptional event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AQ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 events such as fires, dust storms are not counted as an exceedance under AQ regulations.  In US, petitioners can use any applicable data to show exceptionality of an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publi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ing information on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air quality now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individuals, families to adjust plans if air quality is/will be po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health community, other decision-makers to plan for epis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66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does the air quality scenario envision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806472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, tools, and capabilities for one group of end us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ly benefit all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data, tools already exis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currently operational or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10280" y="2323080"/>
            <a:ext cx="718560" cy="27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0800" y="3490200"/>
            <a:ext cx="898560" cy="40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16120" y="4178160"/>
            <a:ext cx="543240" cy="17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33960" y="2948760"/>
            <a:ext cx="804600" cy="32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21200" y="2044800"/>
            <a:ext cx="172584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920" y="1725120"/>
            <a:ext cx="814680" cy="585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9560" y="167328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agreem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11760" y="2847600"/>
            <a:ext cx="1081800" cy="585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560" y="263196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Was pol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event d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to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from afa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6640" y="2874960"/>
            <a:ext cx="140400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6600">
            <a:off x="4450320" y="2725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15800" y="4082040"/>
            <a:ext cx="716040" cy="3222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18240" y="3894120"/>
            <a:ext cx="116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Is it healt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to go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a run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7440" y="123516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Decision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0" y="2523600"/>
            <a:ext cx="1012680" cy="551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7960" y="3799800"/>
            <a:ext cx="1152360" cy="551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ecas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7640" y="1526400"/>
            <a:ext cx="104220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2080" y="1577880"/>
            <a:ext cx="1431720" cy="981000"/>
          </a:xfrm>
          <a:prstGeom prst="hexagon">
            <a:avLst>
              <a:gd name="adj" fmla="val 3648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f mult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bserva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84400" y="3097080"/>
            <a:ext cx="1463760" cy="662040"/>
          </a:xfrm>
          <a:prstGeom prst="hexagon">
            <a:avLst>
              <a:gd name="adj" fmla="val 5527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f observation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6400" y="4051440"/>
            <a:ext cx="1474560" cy="1041120"/>
          </a:xfrm>
          <a:prstGeom prst="hexagon">
            <a:avLst>
              <a:gd name="adj" fmla="val 354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assimilation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bservation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nto 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51200" y="2496960"/>
            <a:ext cx="1404360" cy="155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35520" y="1774080"/>
            <a:ext cx="1121400" cy="12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009800" y="2217240"/>
            <a:ext cx="1295280" cy="4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7000" y="2999160"/>
            <a:ext cx="1096560" cy="24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9000" y="4340520"/>
            <a:ext cx="1062000" cy="22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42200" y="3614760"/>
            <a:ext cx="1173240" cy="60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7680" y="3350160"/>
            <a:ext cx="1285560" cy="102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50600" y="4754160"/>
            <a:ext cx="57708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4000" y="2018520"/>
            <a:ext cx="12247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09" idx="2"/>
            <a:endCxn id="105" idx="2"/>
          </p:cNvCxnSpPr>
          <p:nvPr/>
        </p:nvCxnSpPr>
        <p:spPr>
          <a:xfrm flipH="1" rot="16200000">
            <a:off x="5852160" y="3185640"/>
            <a:ext cx="52920" cy="2390040"/>
          </a:xfrm>
          <a:prstGeom prst="curvedConnector5">
            <a:avLst>
              <a:gd name="adj1" fmla="val 1226712"/>
              <a:gd name="adj2" fmla="val 50000"/>
              <a:gd name="adj3" fmla="val 122671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4" name=""/>
          <p:cNvSpPr/>
          <p:nvPr/>
        </p:nvSpPr>
        <p:spPr>
          <a:xfrm>
            <a:off x="4964040" y="4454640"/>
            <a:ext cx="1801800" cy="898560"/>
          </a:xfrm>
          <a:prstGeom prst="hexagon">
            <a:avLst>
              <a:gd name="adj" fmla="val 5013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istribution of A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rocessed data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3520" y="3912480"/>
            <a:ext cx="750960" cy="700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320" y="5042880"/>
            <a:ext cx="957960" cy="700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" y="995040"/>
            <a:ext cx="1170720" cy="104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200" y="2382840"/>
            <a:ext cx="790560" cy="112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ns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11520" y="5283360"/>
            <a:ext cx="4787280" cy="1416600"/>
            <a:chOff x="2711520" y="5283360"/>
            <a:chExt cx="4787280" cy="1416600"/>
          </a:xfrm>
        </p:grpSpPr>
        <p:sp>
          <p:nvSpPr>
            <p:cNvPr id="130" name=""/>
            <p:cNvSpPr/>
            <p:nvPr/>
          </p:nvSpPr>
          <p:spPr>
            <a:xfrm>
              <a:off x="3684960" y="5691240"/>
              <a:ext cx="3813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These upstream connec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&amp; capabilities aren’t current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operational and interoper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697120" y="5297400"/>
              <a:ext cx="884160" cy="85572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66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does the air quality scenario envision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806472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, tools, and capabilities for one group of end us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ly benefit all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data, tools already exis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currently operational or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378288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 quality scenario represents a great test bed for an interoperable, system-of-system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03040" y="1663200"/>
            <a:ext cx="894096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gencies; met, land management, and environmental/health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tional, regional, local); Academics;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/health management and met agencies (national, regional,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rs and analysts in many set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, health agenci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ateral Cooperative Fora: LRTAP, EANET, 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aration, Arctic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nsumers of Air Quality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, researchers, mass-medi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1444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44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Many actors are ‘decision-makers’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3400" y="1617840"/>
            <a:ext cx="5819760" cy="36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03760" y="2481120"/>
            <a:ext cx="1116000" cy="2700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62440" y="2462040"/>
            <a:ext cx="3698640" cy="2700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" y="53341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Policymakers, sensitive individuals, modelers, parents, transit officials, air quality managers, weather forecasters, air quality analysts, environmental compliance officials,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960" y="5140440"/>
            <a:ext cx="5762520" cy="1361880"/>
          </a:xfrm>
          <a:prstGeom prst="ellipse">
            <a:avLst/>
          </a:prstGeom>
          <a:noFill/>
          <a:ln w="38160">
            <a:solidFill>
              <a:srgbClr val="000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080" y="65196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Existing Effor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McCabe</cp:lastModifiedBy>
  <dcterms:modified xsi:type="dcterms:W3CDTF">2008-09-26T15:37:10Z</dcterms:modified>
  <cp:revision>245</cp:revision>
  <dc:subject/>
  <dc:title>Update on OGC involvement in GEOSS</dc:title>
</cp:coreProperties>
</file>